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3E6-02CA-4C8F-B7CC-609409AB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93B-AE35-4635-889C-A54BC6BC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68C-0A11-46B7-A398-9541497D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7C5-9E13-4A76-A4F0-BB1BF192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4373-6FF1-466C-A08A-2DBBA632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6CFA-F492-43D4-A1B6-38240A3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9C6D-2101-4460-B19B-291557DD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7E94-42B4-4827-9E38-8FC51BB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8B9-7C43-47D6-8B70-C5656681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AF19-F108-4DDC-9CAF-EBD2B703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53FD-B236-4DDF-B9F9-8916E67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1F7-46E2-402F-80E5-FACC390F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1F68-3C52-42AC-BF1B-36813F62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2D7F-0307-48BE-86B4-94EDAE0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20B-9814-4A7F-AD82-054F5C82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7B0-5D5B-434C-9DE8-8FE99FF6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D66-1E62-4307-B448-F40E2AE3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483-97DD-4045-9582-CCC0440D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F53-1646-4889-982C-73653B6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7A0-EC78-484A-B52D-5821193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295-97D6-4A7E-B2B1-BE772AA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48E-1B5F-4B25-9AFE-FBA7B1D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A3A-2BC2-4393-A6EB-647BB82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AB7-9D7C-4B93-ABC4-4E43F56A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9E63-102F-4CE6-84CE-641956A8C75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0751-1C41-4003-9967-769603B57E1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The Brain and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ction 4Q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52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80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rainmap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43894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105520" y="1905120"/>
            <a:ext cx="4038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plit Br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 condition in which the two hemispheres of the brain are isolated by cutting the connecting fibers (mainly those of the corpus callos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treat severe 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52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81480" y="1905120"/>
            <a:ext cx="396252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 half of each eye’s visual field goes to the right hemisphere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is shared across Corpus Call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 (visual) in right, verbal in left (flipped for lef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t: eye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573200"/>
            <a:ext cx="8381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ain’s 3 sections: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Hindbrain, Midbrain, Fore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ndbrai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cated near the base of the sk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Medul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rols breathing and refl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Pon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ists with balance, hearing, other fu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Cerebell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sists with control of posture/bal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eticular Formatio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s arousal (attention, sleep, arous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dbr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above the hindbrain, it integrates and relays sensor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idbrain and hindbr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 mos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ain 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120" y="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7696080" cy="463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90920" y="633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4343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6338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41911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676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nd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715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133720"/>
            <a:ext cx="106668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9718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d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933960" y="2971800"/>
            <a:ext cx="5331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752480"/>
            <a:ext cx="815328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ebrai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 above the Hind/Midbrain, includes the Thalamus/Hypothalamus/Cereb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alam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grates sensory inputs/routes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ypothalam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emotions, sleep, 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Forebr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argest part of the brain, whe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-level think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rebru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 of forebrain that stores unconscious/conscious memories (is “the brai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rebral Cortex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most layer that stores complex,abstract info used to think (makes us “u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rainmap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600200" y="2362320"/>
            <a:ext cx="6477120" cy="449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14600" y="17524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Limbic System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within Fore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209680"/>
            <a:ext cx="76212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1337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038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52880" y="426708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7432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4724280"/>
            <a:ext cx="4419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029200" y="3276720"/>
            <a:ext cx="2286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523880" y="2408400"/>
            <a:ext cx="6629400" cy="4195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18288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d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Visua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brainmap" descr=""/>
          <p:cNvPicPr/>
          <p:nvPr/>
        </p:nvPicPr>
        <p:blipFill>
          <a:blip r:embed="rId2"/>
          <a:stretch/>
        </p:blipFill>
        <p:spPr>
          <a:xfrm>
            <a:off x="23760" y="1143000"/>
            <a:ext cx="5310360" cy="5715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4120" y="1752480"/>
            <a:ext cx="38098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Lob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describe regions of the cerebral cortex where certain activitie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; motor control, speech, vision, sensation, h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Frontal lo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lly believed to control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perso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brainmap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52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62120" y="2055240"/>
            <a:ext cx="5105160" cy="4192920"/>
            <a:chOff x="762120" y="2055240"/>
            <a:chExt cx="5105160" cy="41929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762120" y="2210400"/>
              <a:ext cx="5105160" cy="40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38120" y="2055240"/>
              <a:ext cx="203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pus callo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562720" y="243828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rpus Callo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and of neural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the two brain hemisphe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s messages between the hemisph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rainmap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6-12-05T15:25:56Z</dcterms:modified>
  <cp:revision>159</cp:revision>
  <dc:subject/>
  <dc:title>No Slide Title</dc:title>
</cp:coreProperties>
</file>